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chimes.wav" ContentType="audio/x-wav"/>
  <Override PartName="/ppt/media/image11.jpeg" ContentType="image/jpeg"/>
  <Override PartName="/ppt/media/image5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1CD2-5077-43BB-8870-EC2F8916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913C-291E-4C30-AE75-DB4194A2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280-922E-4585-BBC2-A0556EC3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535-1604-438F-A1BF-2E95B559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7A73-556F-44E7-A8C2-17EB577D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F042-881B-4F11-93EE-44D90328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682D-E432-49B9-A348-911EA0EC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7499-F7EE-401A-AC04-EA407701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1B61-1EAC-4E9B-BD7B-04A95B0B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C77B-1185-4599-BCDB-FB8B1AAA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1987-EC48-4C96-8B1F-172DBD6A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DA7-27AF-4BF0-A069-3CD94B08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A5CF-B6E7-471A-B8D0-4CD68F25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9AE7-8878-4FB2-BFCC-AD577A4E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1CBF-D8FE-40D2-AD55-1B0A88A2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83B8-6D7E-40E2-8FF3-FFF34444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8825-3814-43D8-A2DA-64CC80E5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672A-AA0F-4C4B-AADD-392B88CF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DE25-D864-45F2-833A-D37C66A8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74E0-1654-4BD4-9149-5CE51203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1B4-06FF-4BBE-B2A3-98BDF631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B46-FBBC-4E0D-9D68-32172802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AEE-C617-4E0C-BBAA-8D3EB517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7FF-A6FC-4228-9B96-6407432B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7CD5-F70D-4B87-9958-FDFB97DE74DF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C942-315D-47D7-8EF8-2847294C7D63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802760" y="2521080"/>
            <a:ext cx="10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f6f4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4f6f4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8520" y="152388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f6f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4038480" cy="6248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038480" y="762120"/>
            <a:ext cx="5105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a07a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eca07a"/>
                </a:solidFill>
                <a:latin typeface="楷体_GB2312"/>
                <a:ea typeface="楷体_GB2312"/>
              </a:rPr>
              <a:t>1976</a:t>
            </a:r>
            <a:r>
              <a:rPr b="1" lang="zh-CN" sz="3200" spc="-1" strike="noStrike">
                <a:solidFill>
                  <a:srgbClr val="eca07a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eca07a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eca07a"/>
                </a:solidFill>
                <a:latin typeface="楷体_GB2312"/>
                <a:ea typeface="楷体_GB2312"/>
              </a:rPr>
              <a:t>月生于湖北宜昌，两岁时，因高烧失聪。</a:t>
            </a:r>
            <a:r>
              <a:rPr b="1" lang="zh-CN" sz="3200" spc="-1" strike="noStrike">
                <a:solidFill>
                  <a:srgbClr val="eca07a"/>
                </a:solidFill>
                <a:latin typeface="楷体_GB2312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eca07a"/>
                </a:solidFill>
                <a:latin typeface="楷体_GB2312"/>
                <a:ea typeface="楷体_GB2312"/>
              </a:rPr>
              <a:t>岁开始舞蹈训练，</a:t>
            </a:r>
            <a:r>
              <a:rPr b="1" lang="zh-CN" sz="3200" spc="-1" strike="noStrike">
                <a:solidFill>
                  <a:srgbClr val="eca07a"/>
                </a:solidFill>
                <a:latin typeface="楷体_GB2312"/>
                <a:ea typeface="楷体_GB2312"/>
              </a:rPr>
              <a:t>1992</a:t>
            </a:r>
            <a:r>
              <a:rPr b="1" lang="zh-CN" sz="3200" spc="-1" strike="noStrike">
                <a:solidFill>
                  <a:srgbClr val="eca07a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eca07a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eca07a"/>
                </a:solidFill>
                <a:latin typeface="楷体_GB2312"/>
                <a:ea typeface="楷体_GB2312"/>
              </a:rPr>
              <a:t>月，作为惟一一位残疾人舞蹈家登上意大利斯卡拉大剧院的舞台。</a:t>
            </a:r>
            <a:r>
              <a:rPr b="1" lang="zh-CN" sz="3200" spc="-1" strike="noStrike">
                <a:solidFill>
                  <a:srgbClr val="eca07a"/>
                </a:solidFill>
                <a:latin typeface="楷体_GB2312"/>
                <a:ea typeface="楷体_GB2312"/>
              </a:rPr>
              <a:t>1994</a:t>
            </a:r>
            <a:r>
              <a:rPr b="1" lang="zh-CN" sz="3200" spc="-1" strike="noStrike">
                <a:solidFill>
                  <a:srgbClr val="eca07a"/>
                </a:solidFill>
                <a:latin typeface="楷体_GB2312"/>
                <a:ea typeface="楷体_GB2312"/>
              </a:rPr>
              <a:t>年，考取湖北美术学院装潢设计系。</a:t>
            </a:r>
            <a:r>
              <a:rPr b="1" lang="zh-CN" sz="3200" spc="-1" strike="noStrike">
                <a:solidFill>
                  <a:srgbClr val="eca07a"/>
                </a:solidFill>
                <a:latin typeface="楷体_GB2312"/>
                <a:ea typeface="楷体_GB2312"/>
              </a:rPr>
              <a:t>2000</a:t>
            </a:r>
            <a:r>
              <a:rPr b="1" lang="zh-CN" sz="3200" spc="-1" strike="noStrike">
                <a:solidFill>
                  <a:srgbClr val="eca07a"/>
                </a:solidFill>
                <a:latin typeface="楷体_GB2312"/>
                <a:ea typeface="楷体_GB2312"/>
              </a:rPr>
              <a:t>年，在纽约卡内基音乐厅演出。荣获全国残疾人艺术汇演一等奖、“奋发文明进步奖”个人文艺奖；现任中国特殊艺术协会副主席。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0"/>
            <a:ext cx="22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楷体_GB2312"/>
                <a:ea typeface="隶书"/>
              </a:rPr>
              <a:t>邰丽华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802400" y="25718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f6f4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千手观音</a:t>
            </a:r>
            <a:endParaRPr b="0" lang="en-US" sz="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19080"/>
            <a:ext cx="4762440" cy="6838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218360" y="838080"/>
            <a:ext cx="790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千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手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观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音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0360" y="838080"/>
            <a:ext cx="2898720" cy="838440"/>
          </a:xfrm>
          <a:prstGeom prst="cloudCallout">
            <a:avLst>
              <a:gd name="adj1" fmla="val -70537"/>
              <a:gd name="adj2" fmla="val 173486"/>
            </a:avLst>
          </a:prstGeom>
          <a:solidFill>
            <a:srgbClr val="33cccc">
              <a:alpha val="50000"/>
            </a:srgbClr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 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隶书"/>
              </a:rPr>
              <a:t>想一想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22600" y="106668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64c48"/>
                </a:solidFill>
                <a:latin typeface="Times New Roman"/>
                <a:ea typeface="楷体_GB2312"/>
              </a:rPr>
              <a:t>面对挫折的不同态度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2819520"/>
            <a:ext cx="1981080" cy="16002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挫折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2133720"/>
            <a:ext cx="2286000" cy="1371600"/>
          </a:xfrm>
          <a:prstGeom prst="ellipse">
            <a:avLst/>
          </a:prstGeom>
          <a:solidFill>
            <a:srgbClr val="95ee4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成功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4114800"/>
            <a:ext cx="2286000" cy="1371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失败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2895480"/>
            <a:ext cx="1905120" cy="228600"/>
          </a:xfrm>
          <a:prstGeom prst="rightArrow">
            <a:avLst>
              <a:gd name="adj1" fmla="val 50000"/>
              <a:gd name="adj2" fmla="val 20834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4267080"/>
            <a:ext cx="1905120" cy="228600"/>
          </a:xfrm>
          <a:prstGeom prst="rightArrow">
            <a:avLst>
              <a:gd name="adj1" fmla="val 50000"/>
              <a:gd name="adj2" fmla="val 20834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11509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a3df5"/>
                </a:solidFill>
                <a:latin typeface="Times New Roman"/>
                <a:ea typeface="华文行楷"/>
              </a:rPr>
              <a:t>真心英雄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476000" y="691920"/>
            <a:ext cx="73803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宋体"/>
              </a:rPr>
              <a:t>在我心中曾经有一个梦 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宋体"/>
              </a:rPr>
              <a:t>要用歌声让你忘了所有的痛 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宋体"/>
              </a:rPr>
              <a:t>灿烂星空谁是真的英雄</a:t>
            </a:r>
            <a:br>
              <a:rPr sz="2400"/>
            </a:br>
            <a:r>
              <a:rPr b="1" lang="zh-CN" sz="2400" spc="-1" strike="noStrike">
                <a:solidFill>
                  <a:srgbClr val="402000"/>
                </a:solidFill>
                <a:latin typeface="宋体"/>
              </a:rPr>
              <a:t>平凡的人们给我最多感动</a:t>
            </a:r>
            <a:br>
              <a:rPr sz="2400"/>
            </a:br>
            <a:r>
              <a:rPr b="1" lang="zh-CN" sz="2400" spc="-1" strike="noStrike">
                <a:solidFill>
                  <a:srgbClr val="402000"/>
                </a:solidFill>
                <a:latin typeface="宋体"/>
              </a:rPr>
              <a:t>再没有恨也没有了痛</a:t>
            </a:r>
            <a:br>
              <a:rPr sz="2400"/>
            </a:br>
            <a:r>
              <a:rPr b="1" lang="zh-CN" sz="2400" spc="-1" strike="noStrike">
                <a:solidFill>
                  <a:srgbClr val="402000"/>
                </a:solidFill>
                <a:latin typeface="宋体"/>
              </a:rPr>
              <a:t>但愿人间处处都有爱的影踪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宋体"/>
              </a:rPr>
              <a:t>用我们的歌换你真心笑容</a:t>
            </a:r>
            <a:br>
              <a:rPr sz="2400"/>
            </a:br>
            <a:r>
              <a:rPr b="1" lang="zh-CN" sz="2400" spc="-1" strike="noStrike">
                <a:solidFill>
                  <a:srgbClr val="402000"/>
                </a:solidFill>
                <a:latin typeface="宋体"/>
              </a:rPr>
              <a:t>祝福你的人生从此与众不同</a:t>
            </a:r>
            <a:br>
              <a:rPr sz="2400"/>
            </a:br>
            <a:r>
              <a:rPr b="1" lang="zh-CN" sz="2400" spc="-1" strike="noStrike">
                <a:solidFill>
                  <a:srgbClr val="402000"/>
                </a:solidFill>
                <a:latin typeface="宋体"/>
              </a:rPr>
              <a:t>把握生命里的每一分钟</a:t>
            </a:r>
            <a:br>
              <a:rPr sz="2400"/>
            </a:br>
            <a:r>
              <a:rPr b="1" lang="zh-CN" sz="2400" spc="-1" strike="noStrike">
                <a:solidFill>
                  <a:srgbClr val="402000"/>
                </a:solidFill>
                <a:latin typeface="宋体"/>
              </a:rPr>
              <a:t>全力以赴我们心中的梦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把握生命里每一次感动和心爱的朋友热情相拥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让真心的话和开心的泪  在你我的心里流动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1151280" cy="1150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2819520" y="4191120"/>
            <a:ext cx="466704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不经历风雨怎么见彩虹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没有人能随随便便成功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86000" y="1523880"/>
            <a:ext cx="458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a07a"/>
                </a:solidFill>
                <a:latin typeface="方正舒体"/>
                <a:ea typeface="方正舒体"/>
              </a:rPr>
              <a:t>       </a:t>
            </a:r>
            <a:r>
              <a:rPr b="1" lang="zh-CN" sz="5400" spc="-1" strike="noStrike">
                <a:solidFill>
                  <a:srgbClr val="008000"/>
                </a:solidFill>
                <a:latin typeface="华文行楷"/>
                <a:ea typeface="华文行楷"/>
              </a:rPr>
              <a:t>通过本节课的探讨，我都有哪些所得？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 rot="5400000">
            <a:off x="-304920" y="2286000"/>
            <a:ext cx="320040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ce9964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宋体"/>
              </a:rPr>
              <a:t>心灵收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ce9964"/>
                  </a:gs>
                  <a:gs pos="100000">
                    <a:srgbClr val="0099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-496440"/>
            <a:ext cx="8153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802400" y="25718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f6f4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千手观音</a:t>
            </a:r>
            <a:endParaRPr b="0" lang="en-US" sz="8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67652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有个女生被同学怀疑偷了钱包，自感委屈难百口难辩，结果以自杀来表示自己的清白。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       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457200"/>
            <a:ext cx="2133720" cy="1143000"/>
          </a:xfrm>
          <a:prstGeom prst="irregularSeal1">
            <a:avLst/>
          </a:prstGeom>
          <a:solidFill>
            <a:srgbClr val="00ffff">
              <a:alpha val="50000"/>
            </a:srgbClr>
          </a:solidFill>
          <a:ln cap="rnd" w="93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情景体验三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280" y="476280"/>
            <a:ext cx="7777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64c48"/>
                </a:solidFill>
                <a:latin typeface="Times New Roman"/>
                <a:ea typeface="华文行楷"/>
              </a:rPr>
              <a:t>    </a:t>
            </a:r>
            <a:r>
              <a:rPr b="1" lang="zh-CN" sz="6600" spc="-1" strike="noStrike">
                <a:solidFill>
                  <a:srgbClr val="f64c48"/>
                </a:solidFill>
                <a:latin typeface="Times New Roman"/>
                <a:ea typeface="华文行楷"/>
              </a:rPr>
              <a:t>强者的生命赞歌</a:t>
            </a:r>
            <a:endParaRPr b="0" lang="en-US" sz="6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195640" y="2205000"/>
            <a:ext cx="5400720" cy="374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99072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有位学生，在小学 时学习成绩一直很好，他自己也很喜欢学习，小学老师经常表扬他。但上了中学后，他发现自己的学习成绩常常排在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名之外，这令他非常惶恐，父母也因他的成绩问题责备他，他渐渐地对各科考试感到害怕。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457200"/>
            <a:ext cx="2133720" cy="1143000"/>
          </a:xfrm>
          <a:prstGeom prst="irregularSeal1">
            <a:avLst/>
          </a:prstGeom>
          <a:solidFill>
            <a:srgbClr val="00ffff">
              <a:alpha val="50000"/>
            </a:srgbClr>
          </a:solidFill>
          <a:ln cap="rnd" w="93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情景体验一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67652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放学了，一个学生常常磨磨蹭蹭不愿回家。后来老师一了解发现，原来这个学生的父母离婚了，冷冷清清的家庭令他难受。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457200"/>
            <a:ext cx="2133720" cy="1143000"/>
          </a:xfrm>
          <a:prstGeom prst="irregularSeal1">
            <a:avLst/>
          </a:prstGeom>
          <a:solidFill>
            <a:srgbClr val="00ffff">
              <a:alpha val="50000"/>
            </a:srgbClr>
          </a:solidFill>
          <a:ln cap="rnd" w="93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情景体验二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90560" y="5331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02000"/>
                </a:solidFill>
                <a:latin typeface="Times New Roman"/>
              </a:rPr>
              <a:t>挫折涵义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28800" y="28195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</a:rPr>
              <a:t>挫折指人们在生活、工作中，遇到干扰阻碍，动机不能实现、需要不能满足时产生的一种心理状态。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590920" y="685800"/>
            <a:ext cx="3276360" cy="2133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心语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93492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69000" y="297180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人说——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5600" y="363528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人说——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44960" y="426708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人说——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1920" y="493092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人说——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971800"/>
            <a:ext cx="47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挫折是无穷无尽的烦恼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76800" y="36576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挫折是被击倒后的眩晕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53120" y="43434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挫折是充满坎坷的道路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4952880"/>
            <a:ext cx="47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挫折是一笔宝贵的财富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3880" y="685800"/>
            <a:ext cx="622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宋体"/>
              </a:rPr>
              <a:t> 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28560" y="1163520"/>
            <a:ext cx="453924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挫折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隶书"/>
                <a:ea typeface="隶书"/>
              </a:rPr>
              <a:t>是坚韧之石——擦出希望之火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隶书"/>
                <a:ea typeface="隶书"/>
              </a:rPr>
              <a:t>是希望之火——点燃理想之灯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隶书"/>
                <a:ea typeface="隶书"/>
              </a:rPr>
              <a:t>是理想之灯——照亮前进之路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362320" y="1523880"/>
            <a:ext cx="4324320" cy="274320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Top">
              <a:avLst>
                <a:gd name="adj" fmla="val 46759"/>
              </a:avLst>
            </a:prstTxWarp>
            <a:no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3281400" cy="4267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802400" y="25718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f6f4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43000" y="0"/>
            <a:ext cx="5334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桑兰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SangLan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0" name=""/>
          <p:cNvSpPr/>
          <p:nvPr/>
        </p:nvSpPr>
        <p:spPr>
          <a:xfrm>
            <a:off x="4896720" y="144792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4f6f4"/>
                </a:solidFill>
                <a:latin typeface="隶书"/>
                <a:ea typeface="隶书"/>
              </a:rPr>
              <a:t>----</a:t>
            </a:r>
            <a:r>
              <a:rPr b="1" lang="zh-CN" sz="3600" spc="-1" strike="noStrike">
                <a:solidFill>
                  <a:srgbClr val="f4f6f4"/>
                </a:solidFill>
                <a:latin typeface="隶书"/>
                <a:ea typeface="隶书"/>
              </a:rPr>
              <a:t>一个感动了全世界的名字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桑兰——一个感动了美国人的名字</a:t>
            </a:r>
            <a:endParaRPr b="0" lang="en-US" sz="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2209680"/>
            <a:ext cx="485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bfae2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bfae2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bfae2"/>
                </a:solidFill>
                <a:latin typeface="Times New Roman"/>
              </a:rPr>
              <a:t>我叫桑兰，我又回到了这里</a:t>
            </a:r>
            <a:r>
              <a:rPr b="1" lang="zh-CN" sz="2800" spc="-1" strike="noStrike">
                <a:solidFill>
                  <a:srgbClr val="fbfae2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bfae2"/>
                </a:solidFill>
                <a:latin typeface="Times New Roman"/>
              </a:rPr>
              <a:t>我又回到了纽约。两年前我在跳马比赛时摔了下来</a:t>
            </a:r>
            <a:r>
              <a:rPr b="1" lang="zh-CN" sz="2800" spc="-1" strike="noStrike">
                <a:solidFill>
                  <a:srgbClr val="fbfae2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bfae2"/>
                </a:solidFill>
                <a:latin typeface="Times New Roman"/>
              </a:rPr>
              <a:t>亮如白昼的大厅</a:t>
            </a:r>
            <a:r>
              <a:rPr b="1" lang="zh-CN" sz="2800" spc="-1" strike="noStrike">
                <a:solidFill>
                  <a:srgbClr val="fbfae2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bfae2"/>
                </a:solidFill>
                <a:latin typeface="Times New Roman"/>
              </a:rPr>
              <a:t>刹那间一片漆黑</a:t>
            </a:r>
            <a:r>
              <a:rPr b="1" lang="zh-CN" sz="2800" spc="-1" strike="noStrike">
                <a:solidFill>
                  <a:srgbClr val="fbfae2"/>
                </a:solidFill>
                <a:latin typeface="Times New Roman"/>
              </a:rPr>
              <a:t>!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bfae2"/>
                </a:solidFill>
                <a:latin typeface="Times New Roman"/>
              </a:rPr>
              <a:t>———</a:t>
            </a:r>
            <a:r>
              <a:rPr b="1" lang="zh-CN" sz="2800" spc="-1" strike="noStrike">
                <a:solidFill>
                  <a:srgbClr val="fbfae2"/>
                </a:solidFill>
                <a:latin typeface="Times New Roman"/>
              </a:rPr>
              <a:t>我的梦，碎了！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fae2"/>
                </a:solidFill>
                <a:latin typeface="Times New Roman"/>
              </a:rPr>
              <a:t>　 生命总是渴望啊，哪怕我是一朵残缺的花……今天</a:t>
            </a:r>
            <a:r>
              <a:rPr b="1" lang="zh-CN" sz="2800" spc="-1" strike="noStrike">
                <a:solidFill>
                  <a:srgbClr val="fbfae2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bfae2"/>
                </a:solidFill>
                <a:latin typeface="Times New Roman"/>
              </a:rPr>
              <a:t>我回来了</a:t>
            </a:r>
            <a:r>
              <a:rPr b="1" lang="zh-CN" sz="2800" spc="-1" strike="noStrike">
                <a:solidFill>
                  <a:srgbClr val="fbfae2"/>
                </a:solidFill>
                <a:latin typeface="Times New Roman"/>
              </a:rPr>
              <a:t>!</a:t>
            </a:r>
            <a:r>
              <a:rPr b="1" lang="zh-CN" sz="2800" spc="-1" strike="noStrike">
                <a:solidFill>
                  <a:srgbClr val="fbfae2"/>
                </a:solidFill>
                <a:latin typeface="Times New Roman"/>
              </a:rPr>
              <a:t>我曾经跌倒过，我正在站起来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ffefe"/>
            </a:gs>
            <a:gs pos="50000">
              <a:srgbClr val="66ffff"/>
            </a:gs>
            <a:gs pos="100000">
              <a:srgbClr val="cf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814400" y="1066680"/>
            <a:ext cx="5386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桑兰是个不幸的孩子，在别的女孩花枝招展的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岁里，她却被注定要与冰冷的轮椅终生为伴。但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桑兰是个坚强而爽朗的孩子，那份面对逆境的自信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乐观，让许许多多的人感动 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她那灿烂的笑容再次出现在人们面前时，她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告诉记者她正在积极地做着复健。她说她希望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8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时候可以重返赛场，为中国拿回一枚残奥会的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乒乓球金牌！ 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仅是你、我、他的梦，也是桑兰幼小而坚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的心灵中最真切的梦！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3049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桑兰要夺</a:t>
            </a: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2008</a:t>
            </a: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年残奥会金牌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4T10:36:4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13:32Z</dcterms:modified>
  <cp:revision>103</cp:revision>
  <dc:subject>主题班会课件(分28大类): http://shop62905894.taobao.com</dc:subject>
  <dc:title>主题班会课件(分28大类): http://shop62905894.taobao.com</dc:title>
</cp:coreProperties>
</file>